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png" ContentType="image/png"/>
  <Override PartName="/ppt/media/image15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04D5-DF34-4168-9AEA-2A441AE79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companies with effective HR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2AFA-D1B6-45EA-B328-97D8B5CA8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887D-A1D5-429B-ABEA-FEB63AD6D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AD9-F9CA-4C32-BC03-D9F4D2F0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CF34-DD50-4916-B1A1-C4839112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5542-BC5F-49C3-80DE-C9B5D846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F8B-E52D-4E9B-B984-2923E73E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5BCD-320F-40B2-BAA9-90CF500A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FE4F-8A01-45D7-8940-B78C351B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5B7D-D8BE-4DCF-BE52-A879AE00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6CF2-2753-40A0-BF19-F29A7F50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FC4F-EEC9-43BD-BA04-06E17855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6A39-5122-4904-B616-FB7F407D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2800-2898-4039-AA4C-C121A027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438-A815-4D2E-A9F8-3B3FDEB5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26EA-5489-46DC-8CCE-5DED3CDD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5D50-ED6A-4D28-B194-CB187BE0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6FC3-3404-44F0-9808-E6370E96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60F6-D3B7-4162-A621-257BE7BE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E3DE-2060-4CB9-AADA-E48C89BB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ADEC9-6226-4EF0-AB82-2FC9AFDE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9F953-9E74-4F7E-8860-BC157DC3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4B1BE-5F74-4CFB-87B1-DE114867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5A1EF-D5EC-43BF-AAC5-F4637EFF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CA1D4-CAB0-44B1-9AE6-6C227BC6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DF95-46CF-4A7F-84B7-CF214F5C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195AA-0132-4D94-9D55-70431EDF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4FA1F-B98F-45A5-8F2C-6368259E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F3E93-7E4B-416C-A90B-9876627B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4A56A-B27C-4C1B-927F-2FAA58F8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0B600-B5AC-4CE1-B9FC-84860494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C3044-3239-48B7-9AB7-252F1D22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0906A-A515-4E17-A05C-EBBAE7FE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795A9-88BC-46BC-A3CF-B5BD42A3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A4AE6-CE5D-4DB7-BBDF-53F89224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1E4BF-08B7-4D18-908C-0F1F1A1B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7D43-80FD-4A44-B3B9-5C773BD6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2E609-5BB4-428D-80D0-CF84A191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F250F-1A84-4615-8961-DAD62A0D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EE50E-83D8-4722-B8B3-2E2C479C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8F0AF-FEBF-4EF0-B769-E0EF6916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D914F-51A3-4460-9FEC-3AB7B1FD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661D9-41D4-49D2-BD68-CCF2D7A4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4EFCC-9028-453B-9B3B-69B7FEB0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C35E5-A15F-4FB2-9335-0D90850F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433D2-43DD-4B16-AAF3-C5FC0432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82CF0-5134-452E-B988-8FEE13CA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B9F-2A99-40CA-8E83-127AF991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88C1D-CA8C-4D00-8925-65C2E36B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ABEBE-C141-4542-A7E3-27F8C28C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D216F-4E90-498E-BE26-36E07D81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5E0D8-C6D0-4B6F-8EB3-E58A4690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8E33E-8B26-4643-817C-5822C31C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CC9EF-7110-479B-B729-55C77F50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0938B-68A2-457E-A8B5-FF251001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738F2-8644-44CF-8E1A-CF4B9146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7E094-0688-43F2-96C0-6D2F2BA2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FB3EF-F229-4E30-A614-A2FD132E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3C9F-4BBC-4CA8-8A7B-F1E8B14E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DE7C0-14D9-4AB7-85A5-C9D4C03B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B3896-2986-4496-8DDD-DD7B9E4C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59A6E-13C6-43AC-8683-CFFC246C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476E0-7BCA-4B9D-ADC6-22277CF6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491E2-6219-41CB-AD2D-0A93C5A9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53D95-E11A-478F-A4F8-1FBC4BEF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6C750-EF05-4A56-A5D3-3AD6EF85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0E7C4-0E49-4D91-AFD3-44122E19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078D5-3A6F-4772-AF57-BC4FC252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9F4AE-15B3-4E29-A065-FCBA9CCD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6EB5-019E-446B-812B-5E6CB3BC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15870-E075-45CE-9D4D-9A3061ED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96C9E-5938-403C-A1F6-44EE63C5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9D8B8-3742-452C-BA28-208C84CB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71711-EDD8-4AF5-96AE-88034413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9EF77-D2C9-4D4A-9DAD-1E6ABCA8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0AD2E-FE2E-47C9-B67D-CB558FF2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6B57A-6333-4BE1-898C-E8579A9C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AE8CA-4B64-429D-8063-B0A7CD14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6D9D7-4C1D-40B8-9B35-B1725EBF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03C92-42B2-4EAA-8BC4-BF4CC984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3C9-B116-422C-B891-F95D4494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0833C-3C97-471E-8109-CBFFBB97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EAA24-E3D1-4A19-B4C5-94AEF18F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377A3-01E2-4D36-AD72-38EF3E28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F9345-6A4E-4123-B975-A84068CB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37C70-C863-45B9-BBD6-EE60F7D5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44CD-2776-433D-8803-D5FA6C50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A7D0-9F0E-4A03-84FD-DAF10A898E9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2AAC-E204-433D-ADC2-C4240A24D3B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BF67-9D36-4816-9CA0-2E5E3E7C792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CBC2-2AA8-484F-A659-E542225F4A6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769D-274D-4622-A753-1669D5D8703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4781-B607-4A00-AC04-C7AA255B6DA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C4E3-64AA-4648-B1A8-08C4205BB0C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uman Resource Manage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Business Concepts and Care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stablishing Polic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ir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cipl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mo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2" name="Picture 3" descr="policies.jpg"/>
          <p:cNvPicPr/>
          <p:nvPr/>
        </p:nvPicPr>
        <p:blipFill>
          <a:blip r:embed="rId1"/>
          <a:stretch/>
        </p:blipFill>
        <p:spPr>
          <a:xfrm>
            <a:off x="4648320" y="1676520"/>
            <a:ext cx="3638520" cy="3787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53" name="Picture 4" descr="policymanual.jpg"/>
          <p:cNvPicPr/>
          <p:nvPr/>
        </p:nvPicPr>
        <p:blipFill>
          <a:blip r:embed="rId2"/>
          <a:stretch/>
        </p:blipFill>
        <p:spPr>
          <a:xfrm>
            <a:off x="1676520" y="4114800"/>
            <a:ext cx="1752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ollowing Labor Law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 all labor laws being followe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s process to make sur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6" name="Picture 3" descr="fish.jpg"/>
          <p:cNvPicPr/>
          <p:nvPr/>
        </p:nvPicPr>
        <p:blipFill>
          <a:blip r:embed="rId1"/>
          <a:stretch/>
        </p:blipFill>
        <p:spPr>
          <a:xfrm>
            <a:off x="3733920" y="3505320"/>
            <a:ext cx="2628720" cy="174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57" name="Picture 4" descr="osha.jpg"/>
          <p:cNvPicPr/>
          <p:nvPr/>
        </p:nvPicPr>
        <p:blipFill>
          <a:blip r:embed="rId2"/>
          <a:stretch/>
        </p:blipFill>
        <p:spPr>
          <a:xfrm>
            <a:off x="1219320" y="3429000"/>
            <a:ext cx="2143080" cy="2133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58" name="Picture 5" descr="ada.png"/>
          <p:cNvPicPr/>
          <p:nvPr/>
        </p:nvPicPr>
        <p:blipFill>
          <a:blip r:embed="rId3"/>
          <a:stretch/>
        </p:blipFill>
        <p:spPr>
          <a:xfrm>
            <a:off x="6705720" y="3200400"/>
            <a:ext cx="2162160" cy="2114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84772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Companies with effective HRM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Employees and customers tend to be more satisfi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The companies tend to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10224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be more innovativ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10224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ave greater productiv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10224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evelop a more favorable reputation in the commun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uman Resource Manage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The policies, practices, and systems that influence employees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19337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behavi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19337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19337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R Responsibilit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ob Analys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cruiting &amp; Hiring Employe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aining &amp; Develop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rformance Man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y &amp; Benefi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mployee Rel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stablishing Polic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llowing all Labor law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Job Analy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tting detailed information about a jo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ing a job descrip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3" name="Picture 3" descr="job description.jpg"/>
          <p:cNvPicPr/>
          <p:nvPr/>
        </p:nvPicPr>
        <p:blipFill>
          <a:blip r:embed="rId1"/>
          <a:stretch/>
        </p:blipFill>
        <p:spPr>
          <a:xfrm>
            <a:off x="4876920" y="2816280"/>
            <a:ext cx="313344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cruiting and Hiring Employe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crui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nding qualified people to apply for jo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ir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lecting the best pers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es this person have the necessa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nowledg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kill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iliti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3" descr="hire-best-candidate.png"/>
          <p:cNvPicPr/>
          <p:nvPr/>
        </p:nvPicPr>
        <p:blipFill>
          <a:blip r:embed="rId1"/>
          <a:stretch/>
        </p:blipFill>
        <p:spPr>
          <a:xfrm>
            <a:off x="4724280" y="4267080"/>
            <a:ext cx="414180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raining and Develop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294920" y="14475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aining: Helping employees learn job-relat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ki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havi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velopment:  Improving employee’s trai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if job chang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9" name="Picture 3" descr="training.jpg"/>
          <p:cNvPicPr/>
          <p:nvPr/>
        </p:nvPicPr>
        <p:blipFill>
          <a:blip r:embed="rId1"/>
          <a:stretch/>
        </p:blipFill>
        <p:spPr>
          <a:xfrm>
            <a:off x="5175360" y="2127240"/>
            <a:ext cx="309060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erformance Manage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Keeping track of employee performanc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2" name="Picture 3" descr="performance.jpg"/>
          <p:cNvPicPr/>
          <p:nvPr/>
        </p:nvPicPr>
        <p:blipFill>
          <a:blip r:embed="rId1"/>
          <a:stretch/>
        </p:blipFill>
        <p:spPr>
          <a:xfrm>
            <a:off x="4486320" y="2657520"/>
            <a:ext cx="329868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lanning and Managing Pay &amp; Benefit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much should the job pay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ould there be bonuse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benefits should be offere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much money is available for pay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" name="Picture 5" descr="paybenefits.jpg"/>
          <p:cNvPicPr/>
          <p:nvPr/>
        </p:nvPicPr>
        <p:blipFill>
          <a:blip r:embed="rId1"/>
          <a:stretch/>
        </p:blipFill>
        <p:spPr>
          <a:xfrm>
            <a:off x="1285920" y="3876840"/>
            <a:ext cx="2536920" cy="25365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health.jpg"/>
          <p:cNvPicPr/>
          <p:nvPr/>
        </p:nvPicPr>
        <p:blipFill>
          <a:blip r:embed="rId2"/>
          <a:stretch/>
        </p:blipFill>
        <p:spPr>
          <a:xfrm>
            <a:off x="5022720" y="4108320"/>
            <a:ext cx="33958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Maintaining positive employee relation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viding handbooks &amp; polic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mployee newslett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municating with employe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nefits &amp; polic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scrimin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fety hazar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rass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9" name="Picture 3" descr="happy.jpg"/>
          <p:cNvPicPr/>
          <p:nvPr/>
        </p:nvPicPr>
        <p:blipFill>
          <a:blip r:embed="rId1"/>
          <a:stretch/>
        </p:blipFill>
        <p:spPr>
          <a:xfrm>
            <a:off x="4943520" y="3267000"/>
            <a:ext cx="352404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4T00:30:34Z</dcterms:created>
  <dc:creator>Lisa</dc:creator>
  <dc:description/>
  <dc:language>en-US</dc:language>
  <cp:lastModifiedBy>Phil Schneider</cp:lastModifiedBy>
  <dcterms:modified xsi:type="dcterms:W3CDTF">2015-10-12T21:22:19Z</dcterms:modified>
  <cp:revision>22</cp:revision>
  <dc:subject/>
  <dc:title>Human Resource Management</dc:title>
</cp:coreProperties>
</file>